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21.pct" ContentType="image/x-pict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8BC4-4078-4351-8BDD-FCD42662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A05-26D1-42B0-BCFA-4F6E1685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2A7-4322-4F61-8015-7CC768AF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59DE-F7BB-473C-8B7B-F20CDFF8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8AD3-8CC0-4A08-9B4F-047A014D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0FB5-9802-4404-B758-415C4ABA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8852-E85E-4084-B5CA-7D636F1F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C4D3-39E1-4BF1-A747-EBC07495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E528-8E69-4DE7-86E4-EDBFF246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F1F0-D785-45CF-8C27-48E393D4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6249-09D0-41CF-87BA-7A20E124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8EB-E2D7-4B30-AA6D-5B96C01A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8623-E9BD-4A6A-BAB2-CD7DE1AD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0F47-3B0E-471E-9AD8-FB15A7A5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0BC9-0D58-4673-8508-63439431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E01F-23A7-4B9D-98F9-C2AD3D4B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D7C5-B743-417B-BA89-D353E29E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A6C8-DC80-4DB4-989C-11888B0C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17F-7B06-4D1D-A323-4948A283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031-CF6F-4CCF-9539-E7283FE7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8968-CCF9-4A52-BE2F-68118FD7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3C9-DCEB-4AD0-82D2-6B107F1C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32B6-B32C-4837-BB94-4E5009CE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8E0C-C614-466A-9E28-9B58624F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85d"/>
                </a:gs>
                <a:gs pos="100000">
                  <a:srgbClr val="f6ae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22803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e9d28"/>
                  </a:gs>
                  <a:gs pos="100000">
                    <a:srgbClr val="f6ae2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22803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e9d28"/>
                  </a:gs>
                  <a:gs pos="100000">
                    <a:srgbClr val="f6ae2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22803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e9d28"/>
                  </a:gs>
                  <a:gs pos="100000">
                    <a:srgbClr val="f6ae2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22803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6ae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22803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6ae2d"/>
                  </a:gs>
                  <a:gs pos="100000">
                    <a:srgbClr val="de9d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22803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6ae2d"/>
                  </a:gs>
                  <a:gs pos="100000">
                    <a:srgbClr val="de9d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2280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2001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2803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2803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44200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2803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2803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2803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622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2803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622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2803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280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280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280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280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280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DB1F-3BFE-4401-8C92-9C70CDA1626B}" type="slidenum">
              <a:rPr b="0" lang="en-US" sz="1200" spc="-1" strike="noStrike">
                <a:solidFill>
                  <a:srgbClr val="6228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85d"/>
                </a:gs>
                <a:gs pos="100000">
                  <a:srgbClr val="f6ae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22803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e9d28"/>
                  </a:gs>
                  <a:gs pos="100000">
                    <a:srgbClr val="f6ae2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22803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e9d28"/>
                  </a:gs>
                  <a:gs pos="100000">
                    <a:srgbClr val="f6ae2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22803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e9d28"/>
                  </a:gs>
                  <a:gs pos="100000">
                    <a:srgbClr val="f6ae2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22803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6ae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22803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6ae2d"/>
                  </a:gs>
                  <a:gs pos="100000">
                    <a:srgbClr val="de9d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22803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6ae2d"/>
                  </a:gs>
                  <a:gs pos="100000">
                    <a:srgbClr val="de9d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2280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42001"/>
                </a:solidFill>
                <a:latin typeface="Palatino"/>
              </a:rPr>
              <a:t>Click to edit the title text format</a:t>
            </a:r>
            <a:endParaRPr b="1" lang="en-US" sz="6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280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280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280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280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280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3F68-AFA4-470A-91CD-A27E16466245}" type="slidenum">
              <a:rPr b="0" lang="en-US" sz="1200" spc="-1" strike="noStrike">
                <a:solidFill>
                  <a:srgbClr val="6228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2803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22803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622803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442001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622803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2803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622803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2803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622803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622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2803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622803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62280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2803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622803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42001"/>
                </a:solidFill>
                <a:latin typeface="Palatino"/>
              </a:rPr>
              <a:t>Obtaining and using wind fields from numerical models of planetary atmospheres</a:t>
            </a:r>
            <a:endParaRPr b="1" lang="en-US" sz="48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22803"/>
                </a:solidFill>
                <a:latin typeface="Palatino"/>
              </a:rPr>
              <a:t>Claire Newman</a:t>
            </a:r>
            <a:endParaRPr b="0" lang="en-US" sz="3600" spc="-1" strike="noStrike">
              <a:solidFill>
                <a:srgbClr val="622803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2803"/>
                </a:solidFill>
                <a:latin typeface="Palatino"/>
              </a:rPr>
              <a:t>Planetary Sciences Department, GPS</a:t>
            </a:r>
            <a:endParaRPr b="0" lang="en-US" sz="3200" spc="-1" strike="noStrike">
              <a:solidFill>
                <a:srgbClr val="622803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2001"/>
                </a:solidFill>
                <a:latin typeface="Palatino"/>
              </a:rPr>
              <a:t>Things to remember about atmospheric data</a:t>
            </a:r>
            <a:endParaRPr b="1" lang="en-US" sz="32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80880"/>
            <a:ext cx="114300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0" y="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1541520"/>
            <a:ext cx="8390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Nothing is static - an atmosphere is time varying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Titan has strong seasonal changes affecting in particular: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The positioning of Hadley cells (meridional transport)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The range of heights and latitudes over which near-surface easterlies can occur (facilitating changes in wind direction)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Tidal effects can also hugely affect the outcome of a tracer experiment (will it ‘surf’ its way out of a region, or stay put?)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6320" y="6400800"/>
            <a:ext cx="2438280" cy="380880"/>
          </a:xfrm>
          <a:prstGeom prst="rect">
            <a:avLst/>
          </a:prstGeom>
          <a:solidFill>
            <a:srgbClr val="506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2001"/>
                </a:solidFill>
                <a:latin typeface="Palatino"/>
              </a:rPr>
              <a:t>Tropospheric winds in TitanWRF</a:t>
            </a:r>
            <a:endParaRPr b="1" lang="en-US" sz="4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80880"/>
            <a:ext cx="114300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0" y="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2280" y="1536840"/>
            <a:ext cx="8839440" cy="3949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12600" y="1143000"/>
            <a:ext cx="541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Northern summer solstice: </a:t>
            </a:r>
            <a:r>
              <a:rPr b="0" i="1" lang="en-US" sz="2400" spc="-1" strike="noStrike">
                <a:solidFill>
                  <a:srgbClr val="622803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Hadley cell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1640" y="5638680"/>
            <a:ext cx="893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ack lin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onal winds [dotted = negative = east to west]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09d2"/>
                </a:solidFill>
                <a:latin typeface="Times New Roman"/>
              </a:rPr>
              <a:t>Colored contours:</a:t>
            </a:r>
            <a:r>
              <a:rPr b="0" lang="en-US" sz="2400" spc="-1" strike="noStrike">
                <a:solidFill>
                  <a:srgbClr val="0e09d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idional winds [blue = negative = south to north]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ded contours:</a:t>
            </a:r>
            <a:r>
              <a:rPr b="1" lang="en-US" sz="2400" spc="-1" strike="noStrike">
                <a:solidFill>
                  <a:srgbClr val="5a80b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cal winds [blue = negative = downward]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4038480"/>
            <a:ext cx="2743200" cy="9144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162920" y="3429000"/>
            <a:ext cx="0" cy="990720"/>
          </a:xfrm>
          <a:prstGeom prst="line">
            <a:avLst/>
          </a:prstGeom>
          <a:ln w="76320">
            <a:solidFill>
              <a:srgbClr val="e00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3505320"/>
            <a:ext cx="0" cy="914400"/>
          </a:xfrm>
          <a:prstGeom prst="line">
            <a:avLst/>
          </a:prstGeom>
          <a:ln w="76320">
            <a:solidFill>
              <a:srgbClr val="506e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2001"/>
                </a:solidFill>
                <a:latin typeface="Palatino"/>
              </a:rPr>
              <a:t>Tropospheric winds in TitanWRF</a:t>
            </a:r>
            <a:endParaRPr b="1" lang="en-US" sz="4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80880"/>
            <a:ext cx="114300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0" y="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3645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0" y="326376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4800600"/>
            <a:ext cx="8991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At </a:t>
            </a:r>
            <a:r>
              <a:rPr b="0" i="1" lang="en-US" sz="2400" spc="-1" strike="noStrike">
                <a:solidFill>
                  <a:srgbClr val="622803"/>
                </a:solidFill>
                <a:latin typeface="Times New Roman"/>
              </a:rPr>
              <a:t>e.g.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20N, expect winds to reverse from westerlies to easterlies as balloon descends through about 7km.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22803"/>
                </a:solidFill>
                <a:latin typeface="Times New Roman"/>
              </a:rPr>
              <a:t>At Huygens site and season, we agree with reversal height to ~2k… but this was one point and time only! We have problems matching inferred surface dune orientations with model surface wind fields.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867280" y="181620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3640" y="16635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N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280656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2882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wind location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6320" y="6400800"/>
            <a:ext cx="2438280" cy="380880"/>
          </a:xfrm>
          <a:prstGeom prst="rect">
            <a:avLst/>
          </a:prstGeom>
          <a:solidFill>
            <a:srgbClr val="506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2001"/>
                </a:solidFill>
                <a:latin typeface="Palatino"/>
              </a:rPr>
              <a:t>Tropospheric winds in TitanWRF</a:t>
            </a:r>
            <a:endParaRPr b="1" lang="en-US" sz="4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80880"/>
            <a:ext cx="114300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0" y="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-174" t="0" r="0" b="0"/>
          <a:stretch/>
        </p:blipFill>
        <p:spPr>
          <a:xfrm>
            <a:off x="152280" y="1523880"/>
            <a:ext cx="8839440" cy="39625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23200" y="1066680"/>
            <a:ext cx="86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Southern spring equinox: </a:t>
            </a:r>
            <a:r>
              <a:rPr b="0" i="1" lang="en-US" sz="2400" spc="-1" strike="noStrike">
                <a:solidFill>
                  <a:srgbClr val="622803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Hadley cells; only very weak easterlie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640" y="5638680"/>
            <a:ext cx="893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ack lin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onal winds [dotted = negative = east to west]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09d2"/>
                </a:solidFill>
                <a:latin typeface="Times New Roman"/>
              </a:rPr>
              <a:t>Colored contours:</a:t>
            </a:r>
            <a:r>
              <a:rPr b="0" lang="en-US" sz="2400" spc="-1" strike="noStrike">
                <a:solidFill>
                  <a:srgbClr val="0e09d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idional winds [blue = negative = south to north]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ded contours:</a:t>
            </a:r>
            <a:r>
              <a:rPr b="1" lang="en-US" sz="2400" spc="-1" strike="noStrike">
                <a:solidFill>
                  <a:srgbClr val="5a80b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cal winds [blue = negative = downward]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05520" y="4114800"/>
            <a:ext cx="1523880" cy="8380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4114800"/>
            <a:ext cx="1981080" cy="8380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029200" y="3429000"/>
            <a:ext cx="0" cy="990720"/>
          </a:xfrm>
          <a:prstGeom prst="line">
            <a:avLst/>
          </a:prstGeom>
          <a:ln w="76320">
            <a:solidFill>
              <a:srgbClr val="e00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3505320"/>
            <a:ext cx="0" cy="914400"/>
          </a:xfrm>
          <a:prstGeom prst="line">
            <a:avLst/>
          </a:prstGeom>
          <a:ln w="76320">
            <a:solidFill>
              <a:srgbClr val="506e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3505320"/>
            <a:ext cx="0" cy="914400"/>
          </a:xfrm>
          <a:prstGeom prst="line">
            <a:avLst/>
          </a:prstGeom>
          <a:ln w="76320">
            <a:solidFill>
              <a:srgbClr val="506e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2001"/>
                </a:solidFill>
                <a:latin typeface="Palatino"/>
              </a:rPr>
              <a:t>Using modeled wind fields</a:t>
            </a:r>
            <a:endParaRPr b="1" lang="en-US" sz="4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80880"/>
            <a:ext cx="114300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0" y="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600" y="1301760"/>
            <a:ext cx="8898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Important things to consider: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Models are only as good as their ability to match </a:t>
            </a:r>
            <a:r>
              <a:rPr b="1" i="1" lang="en-US" sz="2400" spc="-1" strike="noStrike">
                <a:solidFill>
                  <a:srgbClr val="622803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22803"/>
                </a:solidFill>
                <a:latin typeface="Times New Roman"/>
              </a:rPr>
              <a:t>predict</a:t>
            </a: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 observations: Titan GCMs show </a:t>
            </a:r>
            <a:r>
              <a:rPr b="1" i="1" lang="en-US" sz="2400" spc="-1" strike="noStrike">
                <a:solidFill>
                  <a:srgbClr val="622803"/>
                </a:solidFill>
                <a:latin typeface="Times New Roman"/>
              </a:rPr>
              <a:t>many</a:t>
            </a: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 differences to each other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Models differ depending on what physics is included (e.g., tides or no tides) - how important a particular process is may not become apparent until you have certain observation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In mission planning you </a:t>
            </a:r>
            <a:r>
              <a:rPr b="0" i="1" lang="en-US" sz="2400" spc="-1" strike="noStrike">
                <a:solidFill>
                  <a:srgbClr val="622803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be aware of model limitations and error, particularly for less well known atmosphere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Even a ‘perfect’ model can have a wind field such that trajectories are very sensitive to initial conditions 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248520" y="1447920"/>
            <a:ext cx="28191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2001"/>
                </a:solidFill>
                <a:latin typeface="Palatino"/>
              </a:rPr>
              <a:t>3D trajectory visualization plots</a:t>
            </a:r>
            <a:endParaRPr b="1" lang="en-US" sz="4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80880"/>
            <a:ext cx="114300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0" y="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2428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Work done by Alexei Pankine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9725" t="0" r="0" b="0"/>
          <a:stretch/>
        </p:blipFill>
        <p:spPr>
          <a:xfrm>
            <a:off x="152280" y="1447920"/>
            <a:ext cx="6172200" cy="48006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52280" y="1447920"/>
            <a:ext cx="12956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676520" y="2971440"/>
            <a:ext cx="1143000" cy="152280"/>
          </a:xfrm>
          <a:prstGeom prst="line">
            <a:avLst/>
          </a:prstGeom>
          <a:ln w="2844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581280" y="2590560"/>
            <a:ext cx="1371600" cy="228600"/>
          </a:xfrm>
          <a:prstGeom prst="line">
            <a:avLst/>
          </a:prstGeom>
          <a:ln w="2844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7640" y="205740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22803"/>
                </a:solidFill>
                <a:latin typeface="Times New Roman"/>
              </a:rPr>
              <a:t>Starting</a:t>
            </a:r>
            <a:endParaRPr b="0" lang="en-US" sz="16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22803"/>
                </a:solidFill>
                <a:latin typeface="Times New Roman"/>
              </a:rPr>
              <a:t>points</a:t>
            </a:r>
            <a:endParaRPr b="0" lang="en-US" sz="16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48520" y="1743120"/>
            <a:ext cx="28954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ebff"/>
                </a:solidFill>
                <a:latin typeface="Times New Roman"/>
              </a:rPr>
              <a:t>Background westerly (prograde) winds above 15km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066320" y="3124080"/>
            <a:ext cx="685800" cy="15264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028840" y="2514600"/>
            <a:ext cx="609480" cy="7632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715000" y="2362320"/>
            <a:ext cx="533520" cy="75960"/>
          </a:xfrm>
          <a:prstGeom prst="line">
            <a:avLst/>
          </a:prstGeom>
          <a:ln w="28440">
            <a:solidFill>
              <a:srgbClr val="00e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3581280"/>
            <a:ext cx="152280" cy="152640"/>
          </a:xfrm>
          <a:prstGeom prst="ellipse">
            <a:avLst/>
          </a:prstGeom>
          <a:solidFill>
            <a:srgbClr val="ffd600"/>
          </a:solidFill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2743200"/>
            <a:ext cx="152280" cy="152280"/>
          </a:xfrm>
          <a:prstGeom prst="ellipse">
            <a:avLst/>
          </a:prstGeom>
          <a:solidFill>
            <a:srgbClr val="00ebff"/>
          </a:solidFill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4114800"/>
            <a:ext cx="152280" cy="152280"/>
          </a:xfrm>
          <a:prstGeom prst="ellipse">
            <a:avLst/>
          </a:prstGeom>
          <a:solidFill>
            <a:srgbClr val="ffd600"/>
          </a:solidFill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4648320"/>
            <a:ext cx="152280" cy="152280"/>
          </a:xfrm>
          <a:prstGeom prst="ellipse">
            <a:avLst/>
          </a:prstGeom>
          <a:solidFill>
            <a:srgbClr val="ffd600"/>
          </a:solidFill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579132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3200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2803"/>
                </a:solidFill>
                <a:latin typeface="Times New Roman"/>
              </a:rPr>
              <a:t>18km</a:t>
            </a:r>
            <a:endParaRPr b="0" lang="en-US" sz="20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5029200"/>
            <a:ext cx="152280" cy="152280"/>
          </a:xfrm>
          <a:prstGeom prst="ellipse">
            <a:avLst/>
          </a:prstGeom>
          <a:solidFill>
            <a:srgbClr val="00ebff"/>
          </a:solidFill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248520" y="1447920"/>
            <a:ext cx="28191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2001"/>
                </a:solidFill>
                <a:latin typeface="Palatino"/>
              </a:rPr>
              <a:t>3D trajectory visualization plots</a:t>
            </a:r>
            <a:endParaRPr b="1" lang="en-US" sz="4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80880"/>
            <a:ext cx="114300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0" y="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Work done by Alexei Pankine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rcRect l="9725" t="0" r="0" b="0"/>
          <a:stretch/>
        </p:blipFill>
        <p:spPr>
          <a:xfrm>
            <a:off x="152280" y="1447920"/>
            <a:ext cx="6172200" cy="48006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52280" y="1447920"/>
            <a:ext cx="12956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7640" y="205740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22803"/>
                </a:solidFill>
                <a:latin typeface="Times New Roman"/>
              </a:rPr>
              <a:t>Starting</a:t>
            </a:r>
            <a:endParaRPr b="0" lang="en-US" sz="16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22803"/>
                </a:solidFill>
                <a:latin typeface="Times New Roman"/>
              </a:rPr>
              <a:t>points</a:t>
            </a:r>
            <a:endParaRPr b="0" lang="en-US" sz="16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2743200"/>
            <a:ext cx="28954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600"/>
                </a:solidFill>
                <a:latin typeface="Times New Roman"/>
              </a:rPr>
              <a:t>Background easterly (retrograde) winds from 1.5 to 15km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828440" y="3733920"/>
            <a:ext cx="1676520" cy="228600"/>
          </a:xfrm>
          <a:prstGeom prst="line">
            <a:avLst/>
          </a:prstGeom>
          <a:ln w="2844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980720" y="3581280"/>
            <a:ext cx="3124440" cy="457200"/>
          </a:xfrm>
          <a:prstGeom prst="line">
            <a:avLst/>
          </a:prstGeom>
          <a:ln w="2844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066320" y="3962520"/>
            <a:ext cx="762120" cy="15228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105520" y="3505320"/>
            <a:ext cx="457200" cy="7596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440" y="2727360"/>
            <a:ext cx="912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d600"/>
                </a:solidFill>
                <a:latin typeface="Times New Roman"/>
              </a:rPr>
              <a:t>}</a:t>
            </a:r>
            <a:endParaRPr b="0" lang="en-US" sz="120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066320" y="4495680"/>
            <a:ext cx="838440" cy="15264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105520" y="3962520"/>
            <a:ext cx="457200" cy="7596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904760" y="4724280"/>
            <a:ext cx="1600200" cy="228600"/>
          </a:xfrm>
          <a:prstGeom prst="line">
            <a:avLst/>
          </a:prstGeom>
          <a:ln w="2844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295280" y="4952880"/>
            <a:ext cx="609840" cy="7632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981080" y="4572000"/>
            <a:ext cx="3276720" cy="457200"/>
          </a:xfrm>
          <a:prstGeom prst="line">
            <a:avLst/>
          </a:prstGeom>
          <a:ln w="2844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5181480" y="4495680"/>
            <a:ext cx="457200" cy="7632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294920" y="5029200"/>
            <a:ext cx="762120" cy="7632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200040" y="4648320"/>
            <a:ext cx="2133720" cy="304560"/>
          </a:xfrm>
          <a:prstGeom prst="line">
            <a:avLst/>
          </a:prstGeom>
          <a:ln w="2844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257800" y="4572000"/>
            <a:ext cx="457200" cy="7632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29000" y="3581280"/>
            <a:ext cx="152280" cy="152640"/>
          </a:xfrm>
          <a:prstGeom prst="ellipse">
            <a:avLst/>
          </a:prstGeom>
          <a:solidFill>
            <a:srgbClr val="ffd600"/>
          </a:solidFill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2743200"/>
            <a:ext cx="152280" cy="152280"/>
          </a:xfrm>
          <a:prstGeom prst="ellipse">
            <a:avLst/>
          </a:prstGeom>
          <a:solidFill>
            <a:srgbClr val="00ebff"/>
          </a:solidFill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9000" y="4114800"/>
            <a:ext cx="152280" cy="152280"/>
          </a:xfrm>
          <a:prstGeom prst="ellipse">
            <a:avLst/>
          </a:prstGeom>
          <a:solidFill>
            <a:srgbClr val="ffd600"/>
          </a:solidFill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4648320"/>
            <a:ext cx="152280" cy="152280"/>
          </a:xfrm>
          <a:prstGeom prst="ellipse">
            <a:avLst/>
          </a:prstGeom>
          <a:solidFill>
            <a:srgbClr val="ffd600"/>
          </a:solidFill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579132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828440" y="4191120"/>
            <a:ext cx="1676520" cy="228600"/>
          </a:xfrm>
          <a:prstGeom prst="line">
            <a:avLst/>
          </a:prstGeom>
          <a:ln w="2844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066320" y="4419720"/>
            <a:ext cx="762120" cy="15228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28800" y="4114800"/>
            <a:ext cx="3276720" cy="457200"/>
          </a:xfrm>
          <a:prstGeom prst="line">
            <a:avLst/>
          </a:prstGeom>
          <a:ln w="2844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828800" y="4038480"/>
            <a:ext cx="3276720" cy="457200"/>
          </a:xfrm>
          <a:prstGeom prst="line">
            <a:avLst/>
          </a:prstGeom>
          <a:ln w="2844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105520" y="4038480"/>
            <a:ext cx="457200" cy="7632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142640" y="4572000"/>
            <a:ext cx="762120" cy="15228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733560" y="4191120"/>
            <a:ext cx="1447560" cy="228600"/>
          </a:xfrm>
          <a:prstGeom prst="line">
            <a:avLst/>
          </a:prstGeom>
          <a:ln w="2844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105520" y="4114800"/>
            <a:ext cx="457200" cy="7632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8280" y="5029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2803"/>
                </a:solidFill>
                <a:latin typeface="Times New Roman"/>
              </a:rPr>
              <a:t>4km</a:t>
            </a:r>
            <a:endParaRPr b="0" lang="en-US" sz="20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880" y="44956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2803"/>
                </a:solidFill>
                <a:latin typeface="Times New Roman"/>
              </a:rPr>
              <a:t>8km</a:t>
            </a:r>
            <a:endParaRPr b="0" lang="en-US" sz="20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1040" y="373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2803"/>
                </a:solidFill>
                <a:latin typeface="Times New Roman"/>
              </a:rPr>
              <a:t>12km</a:t>
            </a:r>
            <a:endParaRPr b="0" lang="en-US" sz="20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5029200"/>
            <a:ext cx="152280" cy="152280"/>
          </a:xfrm>
          <a:prstGeom prst="ellipse">
            <a:avLst/>
          </a:prstGeom>
          <a:solidFill>
            <a:srgbClr val="00ebff"/>
          </a:solidFill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248520" y="1447920"/>
            <a:ext cx="28191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2001"/>
                </a:solidFill>
                <a:latin typeface="Palatino"/>
              </a:rPr>
              <a:t>3D trajectory visualization plots</a:t>
            </a:r>
            <a:endParaRPr b="1" lang="en-US" sz="4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80880"/>
            <a:ext cx="114300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0" y="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Work done by Alexei Pankine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rcRect l="9725" t="0" r="0" b="0"/>
          <a:stretch/>
        </p:blipFill>
        <p:spPr>
          <a:xfrm>
            <a:off x="152280" y="1447920"/>
            <a:ext cx="6172200" cy="48006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52280" y="1447920"/>
            <a:ext cx="12956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97640" y="205740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22803"/>
                </a:solidFill>
                <a:latin typeface="Times New Roman"/>
              </a:rPr>
              <a:t>Starting</a:t>
            </a:r>
            <a:endParaRPr b="0" lang="en-US" sz="16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22803"/>
                </a:solidFill>
                <a:latin typeface="Times New Roman"/>
              </a:rPr>
              <a:t>points</a:t>
            </a:r>
            <a:endParaRPr b="0" lang="en-US" sz="16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3933720"/>
            <a:ext cx="28954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ebff"/>
                </a:solidFill>
                <a:latin typeface="Times New Roman"/>
              </a:rPr>
              <a:t>Background low speed westerly winds below 1.5km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3580920" y="5181480"/>
            <a:ext cx="2590920" cy="533520"/>
          </a:xfrm>
          <a:prstGeom prst="line">
            <a:avLst/>
          </a:prstGeom>
          <a:ln w="28440">
            <a:solidFill>
              <a:srgbClr val="00e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3581280"/>
            <a:ext cx="152280" cy="152640"/>
          </a:xfrm>
          <a:prstGeom prst="ellipse">
            <a:avLst/>
          </a:prstGeom>
          <a:solidFill>
            <a:srgbClr val="ffd600"/>
          </a:solidFill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2743200"/>
            <a:ext cx="152280" cy="152280"/>
          </a:xfrm>
          <a:prstGeom prst="ellipse">
            <a:avLst/>
          </a:prstGeom>
          <a:solidFill>
            <a:srgbClr val="00ebff"/>
          </a:solidFill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29000" y="4114800"/>
            <a:ext cx="152280" cy="152280"/>
          </a:xfrm>
          <a:prstGeom prst="ellipse">
            <a:avLst/>
          </a:prstGeom>
          <a:solidFill>
            <a:srgbClr val="ffd600"/>
          </a:solidFill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4648320"/>
            <a:ext cx="152280" cy="152280"/>
          </a:xfrm>
          <a:prstGeom prst="ellipse">
            <a:avLst/>
          </a:prstGeom>
          <a:solidFill>
            <a:srgbClr val="ffd600"/>
          </a:solidFill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1280" y="50896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2803"/>
                </a:solidFill>
                <a:latin typeface="Times New Roman"/>
              </a:rPr>
              <a:t>1km</a:t>
            </a:r>
            <a:endParaRPr b="0" lang="en-US" sz="20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579132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5029200"/>
            <a:ext cx="152280" cy="152280"/>
          </a:xfrm>
          <a:prstGeom prst="ellipse">
            <a:avLst/>
          </a:prstGeom>
          <a:solidFill>
            <a:srgbClr val="00ebff"/>
          </a:solidFill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248520" y="1447920"/>
            <a:ext cx="28191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2001"/>
                </a:solidFill>
                <a:latin typeface="Palatino"/>
              </a:rPr>
              <a:t>3D trajectory visualization plots</a:t>
            </a:r>
            <a:endParaRPr b="1" lang="en-US" sz="4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80880"/>
            <a:ext cx="114300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0" y="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Work done by Alexei Pankine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rcRect l="9725" t="0" r="0" b="0"/>
          <a:stretch/>
        </p:blipFill>
        <p:spPr>
          <a:xfrm>
            <a:off x="152280" y="1447920"/>
            <a:ext cx="6172200" cy="48006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52280" y="1447920"/>
            <a:ext cx="12956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1676520" y="2971440"/>
            <a:ext cx="1143000" cy="152280"/>
          </a:xfrm>
          <a:prstGeom prst="line">
            <a:avLst/>
          </a:prstGeom>
          <a:ln w="2844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581280" y="2590560"/>
            <a:ext cx="1371600" cy="228600"/>
          </a:xfrm>
          <a:prstGeom prst="line">
            <a:avLst/>
          </a:prstGeom>
          <a:ln w="2844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7640" y="205740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22803"/>
                </a:solidFill>
                <a:latin typeface="Times New Roman"/>
              </a:rPr>
              <a:t>Starting</a:t>
            </a:r>
            <a:endParaRPr b="0" lang="en-US" sz="16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22803"/>
                </a:solidFill>
                <a:latin typeface="Times New Roman"/>
              </a:rPr>
              <a:t>points</a:t>
            </a:r>
            <a:endParaRPr b="0" lang="en-US" sz="16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48520" y="1743120"/>
            <a:ext cx="28954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ebff"/>
                </a:solidFill>
                <a:latin typeface="Times New Roman"/>
              </a:rPr>
              <a:t>Background westerly (prograde) winds above 15km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600"/>
                </a:solidFill>
                <a:latin typeface="Times New Roman"/>
              </a:rPr>
              <a:t>Background easterly (retrograde) winds from 1.5 to 15km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ebff"/>
                </a:solidFill>
                <a:latin typeface="Times New Roman"/>
              </a:rPr>
              <a:t>Background low speed westerly winds below 1.5km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828440" y="3733920"/>
            <a:ext cx="1676520" cy="228600"/>
          </a:xfrm>
          <a:prstGeom prst="line">
            <a:avLst/>
          </a:prstGeom>
          <a:ln w="2844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980720" y="3581280"/>
            <a:ext cx="3124440" cy="457200"/>
          </a:xfrm>
          <a:prstGeom prst="line">
            <a:avLst/>
          </a:prstGeom>
          <a:ln w="2844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066320" y="3962520"/>
            <a:ext cx="762120" cy="15228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105520" y="3505320"/>
            <a:ext cx="457200" cy="7596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066320" y="3124080"/>
            <a:ext cx="685800" cy="15264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28840" y="2514600"/>
            <a:ext cx="609480" cy="7632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715000" y="2362320"/>
            <a:ext cx="533520" cy="75960"/>
          </a:xfrm>
          <a:prstGeom prst="line">
            <a:avLst/>
          </a:prstGeom>
          <a:ln w="28440">
            <a:solidFill>
              <a:srgbClr val="00e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440" y="2727360"/>
            <a:ext cx="912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d600"/>
                </a:solidFill>
                <a:latin typeface="Times New Roman"/>
              </a:rPr>
              <a:t>}</a:t>
            </a:r>
            <a:endParaRPr b="0" lang="en-US" sz="120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066320" y="4495680"/>
            <a:ext cx="838440" cy="15264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05520" y="3962520"/>
            <a:ext cx="457200" cy="7596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904760" y="4724280"/>
            <a:ext cx="1600200" cy="228600"/>
          </a:xfrm>
          <a:prstGeom prst="line">
            <a:avLst/>
          </a:prstGeom>
          <a:ln w="2844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295280" y="4952880"/>
            <a:ext cx="609840" cy="7632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1981080" y="4572000"/>
            <a:ext cx="3276720" cy="457200"/>
          </a:xfrm>
          <a:prstGeom prst="line">
            <a:avLst/>
          </a:prstGeom>
          <a:ln w="2844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5181480" y="4495680"/>
            <a:ext cx="457200" cy="7632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294920" y="5029200"/>
            <a:ext cx="762120" cy="7632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200040" y="4648320"/>
            <a:ext cx="2133720" cy="304560"/>
          </a:xfrm>
          <a:prstGeom prst="line">
            <a:avLst/>
          </a:prstGeom>
          <a:ln w="2844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257800" y="4572000"/>
            <a:ext cx="457200" cy="7632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3580920" y="5181480"/>
            <a:ext cx="2590920" cy="533520"/>
          </a:xfrm>
          <a:prstGeom prst="line">
            <a:avLst/>
          </a:prstGeom>
          <a:ln w="28440">
            <a:solidFill>
              <a:srgbClr val="00e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29000" y="3581280"/>
            <a:ext cx="152280" cy="152640"/>
          </a:xfrm>
          <a:prstGeom prst="ellipse">
            <a:avLst/>
          </a:prstGeom>
          <a:solidFill>
            <a:srgbClr val="ffd600"/>
          </a:solidFill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29000" y="2743200"/>
            <a:ext cx="152280" cy="152280"/>
          </a:xfrm>
          <a:prstGeom prst="ellipse">
            <a:avLst/>
          </a:prstGeom>
          <a:solidFill>
            <a:srgbClr val="00ebff"/>
          </a:solidFill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4114800"/>
            <a:ext cx="152280" cy="152280"/>
          </a:xfrm>
          <a:prstGeom prst="ellipse">
            <a:avLst/>
          </a:prstGeom>
          <a:solidFill>
            <a:srgbClr val="ffd600"/>
          </a:solidFill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29000" y="4648320"/>
            <a:ext cx="152280" cy="152280"/>
          </a:xfrm>
          <a:prstGeom prst="ellipse">
            <a:avLst/>
          </a:prstGeom>
          <a:solidFill>
            <a:srgbClr val="ffd600"/>
          </a:solidFill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1280" y="50896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2803"/>
                </a:solidFill>
                <a:latin typeface="Times New Roman"/>
              </a:rPr>
              <a:t>1km</a:t>
            </a:r>
            <a:endParaRPr b="0" lang="en-US" sz="20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280" y="579132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828440" y="4191120"/>
            <a:ext cx="1676520" cy="228600"/>
          </a:xfrm>
          <a:prstGeom prst="line">
            <a:avLst/>
          </a:prstGeom>
          <a:ln w="2844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066320" y="4419720"/>
            <a:ext cx="762120" cy="15228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828800" y="4114800"/>
            <a:ext cx="3276720" cy="457200"/>
          </a:xfrm>
          <a:prstGeom prst="line">
            <a:avLst/>
          </a:prstGeom>
          <a:ln w="2844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828800" y="4038480"/>
            <a:ext cx="3276720" cy="457200"/>
          </a:xfrm>
          <a:prstGeom prst="line">
            <a:avLst/>
          </a:prstGeom>
          <a:ln w="2844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5105520" y="4038480"/>
            <a:ext cx="457200" cy="7632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142640" y="4572000"/>
            <a:ext cx="762120" cy="15228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733560" y="4191120"/>
            <a:ext cx="1447560" cy="228600"/>
          </a:xfrm>
          <a:prstGeom prst="line">
            <a:avLst/>
          </a:prstGeom>
          <a:ln w="2844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105520" y="4114800"/>
            <a:ext cx="457200" cy="76320"/>
          </a:xfrm>
          <a:prstGeom prst="line">
            <a:avLst/>
          </a:prstGeom>
          <a:ln w="28440">
            <a:solidFill>
              <a:srgbClr val="6228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48280" y="5029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2803"/>
                </a:solidFill>
                <a:latin typeface="Times New Roman"/>
              </a:rPr>
              <a:t>4km</a:t>
            </a:r>
            <a:endParaRPr b="0" lang="en-US" sz="20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880" y="44956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2803"/>
                </a:solidFill>
                <a:latin typeface="Times New Roman"/>
              </a:rPr>
              <a:t>8km</a:t>
            </a:r>
            <a:endParaRPr b="0" lang="en-US" sz="20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81040" y="373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2803"/>
                </a:solidFill>
                <a:latin typeface="Times New Roman"/>
              </a:rPr>
              <a:t>12km</a:t>
            </a:r>
            <a:endParaRPr b="0" lang="en-US" sz="20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" y="3200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2803"/>
                </a:solidFill>
                <a:latin typeface="Times New Roman"/>
              </a:rPr>
              <a:t>18km</a:t>
            </a:r>
            <a:endParaRPr b="0" lang="en-US" sz="20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29000" y="5029200"/>
            <a:ext cx="152280" cy="152280"/>
          </a:xfrm>
          <a:prstGeom prst="ellipse">
            <a:avLst/>
          </a:prstGeom>
          <a:solidFill>
            <a:srgbClr val="00ebff"/>
          </a:solidFill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380880"/>
            <a:ext cx="114300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0" y="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rcRect l="8340" t="8634" r="3232" b="0"/>
          <a:stretch/>
        </p:blipFill>
        <p:spPr>
          <a:xfrm>
            <a:off x="4495680" y="3124080"/>
            <a:ext cx="4648320" cy="37339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rcRect l="12686" t="8332" r="3279" b="0"/>
          <a:stretch/>
        </p:blipFill>
        <p:spPr>
          <a:xfrm>
            <a:off x="0" y="3124080"/>
            <a:ext cx="4495680" cy="37339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rcRect l="17502" t="36116" r="1588" b="11409"/>
          <a:stretch/>
        </p:blipFill>
        <p:spPr>
          <a:xfrm>
            <a:off x="4724280" y="533520"/>
            <a:ext cx="4343400" cy="18288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rcRect l="0" t="13961" r="0" b="20250"/>
          <a:stretch/>
        </p:blipFill>
        <p:spPr>
          <a:xfrm>
            <a:off x="76320" y="533520"/>
            <a:ext cx="4572000" cy="18288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rcRect l="0" t="79764" r="0" b="0"/>
          <a:stretch/>
        </p:blipFill>
        <p:spPr>
          <a:xfrm>
            <a:off x="76320" y="2286000"/>
            <a:ext cx="4572000" cy="3808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981800" y="-61920"/>
            <a:ext cx="56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Zonal winds at equinox from </a:t>
            </a:r>
            <a:r>
              <a:rPr b="1" i="1" lang="en-US" sz="3600" spc="-1" strike="noStrike">
                <a:solidFill>
                  <a:srgbClr val="622803"/>
                </a:solidFill>
                <a:latin typeface="Times New Roman"/>
              </a:rPr>
              <a:t>two</a:t>
            </a:r>
            <a:r>
              <a:rPr b="1" i="1" lang="en-US" sz="28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GCM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6"/>
          <a:srcRect l="17502" t="88596" r="1588" b="0"/>
          <a:stretch/>
        </p:blipFill>
        <p:spPr>
          <a:xfrm>
            <a:off x="4724280" y="2286000"/>
            <a:ext cx="4343400" cy="3808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388960" y="2666880"/>
            <a:ext cx="50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Resultant trajectories starting at 45N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42001"/>
                </a:solidFill>
                <a:latin typeface="Palatino"/>
              </a:rPr>
              <a:t>Outline of talk</a:t>
            </a:r>
            <a:endParaRPr b="1" lang="en-US" sz="48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289160"/>
            <a:ext cx="784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Brief overview of Titan’s atmosphere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What is a GCM (general circulation model)?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The TitanWRF GCM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Tropospheric wind fields produced by TitanWRF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Using modeled wind field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62280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Important things to consider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62280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Accounting for variability and error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2001"/>
                </a:solidFill>
                <a:latin typeface="Palatino"/>
              </a:rPr>
              <a:t>Using modeled wind fields</a:t>
            </a:r>
            <a:endParaRPr b="1" lang="en-US" sz="4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80880"/>
            <a:ext cx="114300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60" y="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3600" y="1301760"/>
            <a:ext cx="8898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Important things to consider: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Models are only as good as their ability to match </a:t>
            </a:r>
            <a:r>
              <a:rPr b="0" i="1" lang="en-US" sz="2400" spc="-1" strike="noStrike">
                <a:solidFill>
                  <a:srgbClr val="622803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622803"/>
                </a:solidFill>
                <a:latin typeface="Times New Roman"/>
              </a:rPr>
              <a:t>predict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observations: Titan GCMs show </a:t>
            </a:r>
            <a:r>
              <a:rPr b="0" i="1" lang="en-US" sz="2400" spc="-1" strike="noStrike">
                <a:solidFill>
                  <a:srgbClr val="622803"/>
                </a:solidFill>
                <a:latin typeface="Times New Roman"/>
              </a:rPr>
              <a:t>many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differences to each other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Models differ depending on what physics is included (e.g., tides or no tides) - how important a particular process is may not become apparent until you have certain observation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In mission planning you </a:t>
            </a:r>
            <a:r>
              <a:rPr b="0" i="1" lang="en-US" sz="2400" spc="-1" strike="noStrike">
                <a:solidFill>
                  <a:srgbClr val="622803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be aware of model limitations and error, particularly for less well known atmosphere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Even a ‘perfect’ model can have a wind field such that trajectories are very sensitive to initial conditions 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2001"/>
                </a:solidFill>
                <a:latin typeface="Palatino"/>
              </a:rPr>
              <a:t>Using modeled wind fields</a:t>
            </a:r>
            <a:endParaRPr b="1" lang="en-US" sz="4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80880"/>
            <a:ext cx="114300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60" y="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3600" y="1301760"/>
            <a:ext cx="8898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Important things to consider: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Models are only as good as their ability to match </a:t>
            </a:r>
            <a:r>
              <a:rPr b="0" i="1" lang="en-US" sz="2400" spc="-1" strike="noStrike">
                <a:solidFill>
                  <a:srgbClr val="622803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622803"/>
                </a:solidFill>
                <a:latin typeface="Times New Roman"/>
              </a:rPr>
              <a:t>predict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observations: Titan GCMs show </a:t>
            </a:r>
            <a:r>
              <a:rPr b="0" i="1" lang="en-US" sz="2400" spc="-1" strike="noStrike">
                <a:solidFill>
                  <a:srgbClr val="622803"/>
                </a:solidFill>
                <a:latin typeface="Times New Roman"/>
              </a:rPr>
              <a:t>many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differences to each other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Models differ depending on what physics is included (e.g., tides or no tides) - how important a particular process is may not become apparent until you have certain observation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In mission planning you </a:t>
            </a:r>
            <a:r>
              <a:rPr b="1" i="1" lang="en-US" sz="2400" spc="-1" strike="noStrike">
                <a:solidFill>
                  <a:srgbClr val="622803"/>
                </a:solidFill>
                <a:latin typeface="Times New Roman"/>
              </a:rPr>
              <a:t>must</a:t>
            </a: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 be aware of model limitations and error, particularly for less well known atmosphere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Even a ‘perfect’ model can have a wind field such that trajectories are very sensitive to initial conditions 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2001"/>
                </a:solidFill>
                <a:latin typeface="Palatino"/>
              </a:rPr>
              <a:t>Using modeled wind fields</a:t>
            </a:r>
            <a:endParaRPr b="1" lang="en-US" sz="4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80880"/>
            <a:ext cx="114300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0" y="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3600" y="1301760"/>
            <a:ext cx="8898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Important things to consider: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Models are only as good as their ability to match </a:t>
            </a:r>
            <a:r>
              <a:rPr b="0" i="1" lang="en-US" sz="2400" spc="-1" strike="noStrike">
                <a:solidFill>
                  <a:srgbClr val="622803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622803"/>
                </a:solidFill>
                <a:latin typeface="Times New Roman"/>
              </a:rPr>
              <a:t>predict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observations - Titan GCMs show a </a:t>
            </a:r>
            <a:r>
              <a:rPr b="0" i="1" lang="en-US" sz="2400" spc="-1" strike="noStrike">
                <a:solidFill>
                  <a:srgbClr val="622803"/>
                </a:solidFill>
                <a:latin typeface="Times New Roman"/>
              </a:rPr>
              <a:t>lot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of differences to each other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Models differ depending on what physics is included (e.g., tides or no tides) - how important a particular process is may not become apparent until you have certain observation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In mission planning you </a:t>
            </a:r>
            <a:r>
              <a:rPr b="0" i="1" lang="en-US" sz="2400" spc="-1" strike="noStrike">
                <a:solidFill>
                  <a:srgbClr val="622803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be aware of model limitations and error, particularly for less well known atmosphere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Even a ‘perfect’ model can have a wind field such that trajectories are very sensitive to initial conditions 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2001"/>
                </a:solidFill>
                <a:latin typeface="Palatino"/>
              </a:rPr>
              <a:t>The timing effect</a:t>
            </a:r>
            <a:endParaRPr b="1" lang="en-US" sz="4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380880"/>
            <a:ext cx="114300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60" y="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rcRect l="0" t="36737" r="0" b="21624"/>
          <a:stretch/>
        </p:blipFill>
        <p:spPr>
          <a:xfrm>
            <a:off x="609480" y="1219320"/>
            <a:ext cx="8305920" cy="19810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0" y="700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22803"/>
                </a:solidFill>
                <a:latin typeface="Times New Roman"/>
              </a:rPr>
              <a:t>Each color has a local start time differing by just </a:t>
            </a:r>
            <a:r>
              <a:rPr b="1" i="1" lang="en-US" sz="2800" spc="-1" strike="noStrike">
                <a:solidFill>
                  <a:srgbClr val="62280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22803"/>
                </a:solidFill>
                <a:latin typeface="Times New Roman"/>
              </a:rPr>
              <a:t> Titan hours</a:t>
            </a:r>
            <a:endParaRPr b="0" lang="en-US" sz="28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77320" y="3160800"/>
            <a:ext cx="21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ngitude (degrees east)</a:t>
            </a:r>
            <a:endParaRPr b="0" lang="en-US" sz="16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6200000">
            <a:off x="-682920" y="2035440"/>
            <a:ext cx="214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titude (degrees north)</a:t>
            </a:r>
            <a:endParaRPr b="0" lang="en-US" sz="1600" spc="-1" strike="noStrike">
              <a:solidFill>
                <a:srgbClr val="622803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rcRect l="8457" t="15904" r="53563" b="20163"/>
          <a:stretch/>
        </p:blipFill>
        <p:spPr>
          <a:xfrm>
            <a:off x="76320" y="4343400"/>
            <a:ext cx="3657600" cy="23623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132240" y="5506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3"/>
          <a:srcRect l="7576" t="3124" r="4545" b="6249"/>
          <a:stretch/>
        </p:blipFill>
        <p:spPr>
          <a:xfrm>
            <a:off x="3886200" y="4038480"/>
            <a:ext cx="5257800" cy="27860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76320" y="3657600"/>
            <a:ext cx="39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22803"/>
                </a:solidFill>
                <a:latin typeface="Times New Roman"/>
              </a:rPr>
              <a:t>Rapidly </a:t>
            </a:r>
            <a:r>
              <a:rPr b="1" lang="en-US" sz="2000" spc="-1" strike="noStrike">
                <a:solidFill>
                  <a:srgbClr val="622803"/>
                </a:solidFill>
                <a:latin typeface="Times New Roman"/>
              </a:rPr>
              <a:t>time varying</a:t>
            </a:r>
            <a:r>
              <a:rPr b="0" lang="en-US" sz="20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622803"/>
                </a:solidFill>
                <a:latin typeface="Times New Roman"/>
              </a:rPr>
              <a:t>tidal accelerations (period 1 Titan day)</a:t>
            </a:r>
            <a:endParaRPr b="0" lang="en-US" sz="20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59400" y="3535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2280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0600" y="3641760"/>
            <a:ext cx="473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22803"/>
                </a:solidFill>
                <a:latin typeface="Times New Roman"/>
              </a:rPr>
              <a:t>time varying background zonal wind field</a:t>
            </a:r>
            <a:endParaRPr b="0" lang="en-US" sz="20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33720" y="15238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lloon started at 4km altitude and at (0E, 45S)</a:t>
            </a:r>
            <a:endParaRPr b="0" lang="en-US" sz="18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77120" y="6019920"/>
            <a:ext cx="228600" cy="228600"/>
          </a:xfrm>
          <a:prstGeom prst="ellipse">
            <a:avLst/>
          </a:prstGeom>
          <a:solidFill>
            <a:srgbClr val="11e012"/>
          </a:solidFill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5943600"/>
            <a:ext cx="228600" cy="228600"/>
          </a:xfrm>
          <a:prstGeom prst="ellipse">
            <a:avLst/>
          </a:prstGeom>
          <a:solidFill>
            <a:srgbClr val="11e012"/>
          </a:solidFill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2001"/>
                </a:solidFill>
                <a:latin typeface="Palatino"/>
              </a:rPr>
              <a:t>Accounting for variability and errors</a:t>
            </a:r>
            <a:endParaRPr b="1" lang="en-US" sz="4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80880"/>
            <a:ext cx="114300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60" y="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2280" y="1295280"/>
            <a:ext cx="88394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Look for ‘resilient’ results (</a:t>
            </a:r>
            <a:r>
              <a:rPr b="0" i="1" lang="en-US" sz="2400" spc="-1" strike="noStrike">
                <a:solidFill>
                  <a:srgbClr val="622803"/>
                </a:solidFill>
                <a:latin typeface="Times New Roman"/>
              </a:rPr>
              <a:t>e.g.,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trapping regions, Lagrangian Coherent Structures, seasons/locations with low variability)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Include error estimates in trajectory calculation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On the balloon, imagine using </a:t>
            </a:r>
            <a:r>
              <a:rPr b="0" i="1" lang="en-US" sz="2400" spc="-1" strike="noStrike">
                <a:solidFill>
                  <a:srgbClr val="622803"/>
                </a:solidFill>
                <a:latin typeface="Times New Roman"/>
              </a:rPr>
              <a:t>in situ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data to: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2280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622803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improve navigation decisions based on models, </a:t>
            </a: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or even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622803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activate plan B (assume we know nothing until we measure it)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Test autonomous navigation algorithms by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marL="457200" indent="-457200"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2280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622803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using simulated ‘real’ data (</a:t>
            </a:r>
            <a:r>
              <a:rPr b="0" i="1" lang="en-US" sz="2400" spc="-1" strike="noStrike">
                <a:solidFill>
                  <a:srgbClr val="622803"/>
                </a:solidFill>
                <a:latin typeface="Times New Roman"/>
              </a:rPr>
              <a:t>e.g.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from a different day or simulation to the one used to set up or train the algorithms)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622803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conducting a demonstration in the Earth’s atmosphere (Mojave desert balloon flight, planned for summer 2009)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2001"/>
                </a:solidFill>
                <a:latin typeface="Palatino"/>
              </a:rPr>
              <a:t>Conclusions</a:t>
            </a:r>
            <a:endParaRPr b="1" lang="en-US" sz="40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80880"/>
            <a:ext cx="175248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0" y="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320" y="1752480"/>
            <a:ext cx="906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Reliability of results isn’t great, partly due to lack of observations. 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But a balloon mission to Titan would be a great way of getting near-surface wind data for another planetary atmosphere - very rare!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And we can make some cool predictions using model output, which also helps us visualize what the model wind field really looks like…..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380880"/>
            <a:ext cx="175248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0" y="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544212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Work by Philip DuToit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pic>
        <p:nvPicPr>
          <p:cNvPr id="398" name="Macintosh HD:Users:clairenewman:Desktop:TITAN:movies:titan_cool21.mov" descr="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2001"/>
                </a:solidFill>
                <a:latin typeface="Palatino"/>
              </a:rPr>
              <a:t>Overview of Titan’s atmosphere</a:t>
            </a:r>
            <a:endParaRPr b="1" lang="en-US" sz="44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80880"/>
            <a:ext cx="175248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320" y="4267080"/>
            <a:ext cx="2286000" cy="2514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362320" y="426708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0" t="57598" r="2096" b="0"/>
          <a:stretch/>
        </p:blipFill>
        <p:spPr>
          <a:xfrm>
            <a:off x="6184800" y="1295280"/>
            <a:ext cx="2959200" cy="2667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rcRect l="0" t="0" r="1840" b="0"/>
          <a:stretch/>
        </p:blipFill>
        <p:spPr>
          <a:xfrm>
            <a:off x="3276720" y="1295280"/>
            <a:ext cx="2743200" cy="2667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rcRect l="0" t="0" r="0" b="1313"/>
          <a:stretch/>
        </p:blipFill>
        <p:spPr>
          <a:xfrm>
            <a:off x="76320" y="1295280"/>
            <a:ext cx="3047760" cy="2667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5867280" y="4267080"/>
            <a:ext cx="3200400" cy="2514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438280" y="41911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uygens views of the surface</a:t>
            </a:r>
            <a:endParaRPr b="0" lang="en-US" sz="18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60" y="139392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oyager</a:t>
            </a:r>
            <a:endParaRPr b="0" lang="en-US" sz="18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2636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ssini probing to the surface</a:t>
            </a:r>
            <a:endParaRPr b="0" lang="en-US" sz="18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2670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ssini radar shows lakes</a:t>
            </a:r>
            <a:endParaRPr b="0" lang="en-US" sz="18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41400" y="13939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1800" spc="-1" strike="noStrike">
              <a:solidFill>
                <a:srgbClr val="6228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3331" t="0" r="6669" b="1313"/>
          <a:stretch/>
        </p:blipFill>
        <p:spPr>
          <a:xfrm>
            <a:off x="152280" y="1638360"/>
            <a:ext cx="4114800" cy="4000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879000">
            <a:off x="463320" y="3314880"/>
            <a:ext cx="3346200" cy="914400"/>
          </a:xfrm>
          <a:prstGeom prst="ellipse">
            <a:avLst/>
          </a:prstGeom>
          <a:noFill/>
          <a:ln w="381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152960"/>
            <a:ext cx="990720" cy="304920"/>
          </a:xfrm>
          <a:prstGeom prst="line">
            <a:avLst/>
          </a:prstGeom>
          <a:ln w="3816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3331" t="0" r="6669" b="1313"/>
          <a:stretch/>
        </p:blipFill>
        <p:spPr>
          <a:xfrm>
            <a:off x="4724280" y="1638360"/>
            <a:ext cx="4114800" cy="4000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rot="16908600">
            <a:off x="5145120" y="3200400"/>
            <a:ext cx="3578400" cy="914400"/>
          </a:xfrm>
          <a:prstGeom prst="ellipse">
            <a:avLst/>
          </a:prstGeom>
          <a:noFill/>
          <a:ln w="381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248520" y="3009600"/>
            <a:ext cx="228600" cy="1143000"/>
          </a:xfrm>
          <a:prstGeom prst="line">
            <a:avLst/>
          </a:prstGeom>
          <a:ln w="3816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040" y="99072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Zonal wind (west east)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5720" y="99072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Meridional wind (south north)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80880"/>
            <a:ext cx="175248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2001"/>
                </a:solidFill>
                <a:latin typeface="Palatino"/>
              </a:rPr>
              <a:t>Overview of Titan’s atmosphere</a:t>
            </a:r>
            <a:endParaRPr b="1" lang="en-US" sz="44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80880"/>
            <a:ext cx="175248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371600"/>
            <a:ext cx="3352680" cy="50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~95% N</a:t>
            </a:r>
            <a:r>
              <a:rPr b="0" lang="en-US" sz="2400" spc="-1" strike="noStrike" baseline="-25000">
                <a:solidFill>
                  <a:srgbClr val="62280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,  ~5% CH</a:t>
            </a:r>
            <a:r>
              <a:rPr b="0" lang="en-US" sz="2400" spc="-1" strike="noStrike" baseline="-25000">
                <a:solidFill>
                  <a:srgbClr val="622803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(which can condense to form clouds)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Thick atmosphere (~50% higher surface pressure than Earth)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~10AU from Sun 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=&gt; low temperatures: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~ 93K at surface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~ 72K at tropopause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~ 185K at stratopause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-953" r="0" b="0"/>
          <a:stretch/>
        </p:blipFill>
        <p:spPr>
          <a:xfrm>
            <a:off x="4038480" y="1295280"/>
            <a:ext cx="4876920" cy="5410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782760" y="518148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opopause</a:t>
            </a:r>
            <a:endParaRPr b="0" lang="en-US" sz="16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4520" y="419112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atopause</a:t>
            </a:r>
            <a:endParaRPr b="0" lang="en-US" sz="16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1680" y="347328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sopause</a:t>
            </a:r>
            <a:endParaRPr b="0" lang="en-US" sz="1600" spc="-1" strike="noStrike">
              <a:solidFill>
                <a:srgbClr val="6228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2001"/>
                </a:solidFill>
                <a:latin typeface="Palatino"/>
              </a:rPr>
              <a:t>Overview of Titan’s atmosphere</a:t>
            </a:r>
            <a:endParaRPr b="1" lang="en-US" sz="44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80880"/>
            <a:ext cx="175248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143000"/>
            <a:ext cx="45720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Titan rotates slowly (1 day ~ 16 Earth days) =&gt; broad Hadley cell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Atmosphere superrotates (westerlies only) above tropopause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Below, wind direction varie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Flow mostly zonal, but Saturn’s gravity produces tidal acceleration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13412" r="0" b="22274"/>
          <a:stretch/>
        </p:blipFill>
        <p:spPr>
          <a:xfrm>
            <a:off x="4495680" y="1469880"/>
            <a:ext cx="4572000" cy="1981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rcRect l="0" t="2701" r="51724" b="0"/>
          <a:stretch/>
        </p:blipFill>
        <p:spPr>
          <a:xfrm>
            <a:off x="4495680" y="3886200"/>
            <a:ext cx="2362320" cy="2895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480000" y="198108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sterlies</a:t>
            </a:r>
            <a:endParaRPr b="0" lang="en-US" sz="16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4680" y="26352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asterlies</a:t>
            </a:r>
            <a:endParaRPr b="0" lang="en-US" sz="16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64080" y="1143000"/>
            <a:ext cx="458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uthern summer winds and Hadley cell</a:t>
            </a:r>
            <a:endParaRPr b="0" lang="en-US" sz="20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2971800"/>
            <a:ext cx="2666880" cy="40320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rcRect l="0" t="80219" r="0" b="2479"/>
          <a:stretch/>
        </p:blipFill>
        <p:spPr>
          <a:xfrm>
            <a:off x="4495680" y="3451320"/>
            <a:ext cx="4572000" cy="380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rcRect l="2778" t="0" r="0" b="0"/>
          <a:stretch/>
        </p:blipFill>
        <p:spPr>
          <a:xfrm>
            <a:off x="76320" y="4343400"/>
            <a:ext cx="4343400" cy="2438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V="1">
            <a:off x="5562720" y="29714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29600" y="3048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5"/>
          <a:srcRect l="55173" t="2701" r="0" b="0"/>
          <a:stretch/>
        </p:blipFill>
        <p:spPr>
          <a:xfrm>
            <a:off x="6858000" y="3886200"/>
            <a:ext cx="2209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solidFill>
            <a:srgbClr val="ffd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320" y="2971800"/>
            <a:ext cx="8991360" cy="3200400"/>
          </a:xfrm>
          <a:prstGeom prst="rect">
            <a:avLst/>
          </a:prstGeom>
          <a:solidFill>
            <a:srgbClr val="ca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2001"/>
                </a:solidFill>
                <a:latin typeface="Palatino"/>
              </a:rPr>
              <a:t>What is a GCM?</a:t>
            </a:r>
            <a:endParaRPr b="1" lang="en-US" sz="44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80880"/>
            <a:ext cx="175248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238400"/>
            <a:ext cx="914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eneral </a:t>
            </a: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irculation </a:t>
            </a: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odel = 3D numerical simulation of an atmosphere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Basically just “F = m a” + “dU = dQ + dW” + conservation of mas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Dynamics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: Primitive equations [‘F = m a’]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20968" t="39826" r="10151" b="0"/>
          <a:stretch/>
        </p:blipFill>
        <p:spPr>
          <a:xfrm>
            <a:off x="1295280" y="3486240"/>
            <a:ext cx="5257800" cy="2590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3360" y="348624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onal (west-east)</a:t>
            </a:r>
            <a:endParaRPr b="0" lang="en-US" sz="16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4290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idional (south-north)</a:t>
            </a:r>
            <a:endParaRPr b="0" lang="en-US" sz="16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5435640"/>
            <a:ext cx="115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6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19520" y="560376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1d0c"/>
                </a:solidFill>
                <a:latin typeface="Times New Roman"/>
              </a:rPr>
              <a:t>hydrostatic</a:t>
            </a:r>
            <a:endParaRPr b="0" lang="en-US" sz="20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3333600"/>
            <a:ext cx="236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= zonal velocity</a:t>
            </a:r>
            <a:endParaRPr b="0" lang="en-US" sz="1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 = meridional velocity</a:t>
            </a:r>
            <a:endParaRPr b="0" lang="en-US" sz="1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pressure</a:t>
            </a:r>
            <a:endParaRPr b="0" lang="en-US" sz="1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longitude</a:t>
            </a:r>
            <a:endParaRPr b="0" lang="en-US" sz="1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latitude</a:t>
            </a:r>
            <a:endParaRPr b="0" lang="en-US" sz="1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rotation rate</a:t>
            </a:r>
            <a:endParaRPr b="0" lang="en-US" sz="1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density</a:t>
            </a:r>
            <a:endParaRPr b="0" lang="en-US" sz="1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= planetary radius</a:t>
            </a:r>
            <a:endParaRPr b="0" lang="en-US" sz="1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= gravitational accn</a:t>
            </a:r>
            <a:endParaRPr b="0" lang="en-US" sz="1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 = friction terms</a:t>
            </a:r>
            <a:endParaRPr b="0" lang="en-US" sz="18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0960" y="243828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22803"/>
                </a:solidFill>
                <a:latin typeface="Times New Roman"/>
              </a:rPr>
              <a:t>Newton II</a:t>
            </a:r>
            <a:endParaRPr b="0" lang="en-US" sz="18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800" y="243828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22803"/>
                </a:solidFill>
                <a:latin typeface="Times New Roman"/>
              </a:rPr>
              <a:t>1st law of thermodynamics</a:t>
            </a:r>
            <a:endParaRPr b="0" lang="en-US" sz="18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362320" y="2209320"/>
            <a:ext cx="0" cy="304920"/>
          </a:xfrm>
          <a:prstGeom prst="line">
            <a:avLst/>
          </a:prstGeom>
          <a:ln w="936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419720" y="2209320"/>
            <a:ext cx="0" cy="304920"/>
          </a:xfrm>
          <a:prstGeom prst="line">
            <a:avLst/>
          </a:prstGeom>
          <a:ln w="9360">
            <a:solidFill>
              <a:srgbClr val="622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7200" y="6324480"/>
            <a:ext cx="79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Physics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: parameterizations of sub-grid scale physical processe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6320" y="3352680"/>
            <a:ext cx="8991360" cy="3429000"/>
          </a:xfrm>
          <a:prstGeom prst="rect">
            <a:avLst/>
          </a:prstGeom>
          <a:solidFill>
            <a:srgbClr val="ffd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320" y="1143000"/>
            <a:ext cx="8991360" cy="2133720"/>
          </a:xfrm>
          <a:prstGeom prst="rect">
            <a:avLst/>
          </a:prstGeom>
          <a:solidFill>
            <a:srgbClr val="ca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2001"/>
                </a:solidFill>
                <a:latin typeface="Palatino"/>
              </a:rPr>
              <a:t>The TitanWRF GCM</a:t>
            </a:r>
            <a:endParaRPr b="1" lang="en-US" sz="44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80880"/>
            <a:ext cx="175248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352680"/>
            <a:ext cx="9144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Titan physics: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radiative heating and cooling [‘dQ’] includes: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2280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absorption and scattering of solar radiation by photochemical haze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pressure-induced absorption of IR radiation by background gase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cooling by haze and stratospheric gases in the IR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absorption of incoming solar radiation in methane band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2280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22803"/>
                </a:solidFill>
                <a:latin typeface="Times New Roman"/>
              </a:rPr>
              <a:t>Temperature change [~dU] due to dQ [heating] and dW [adiabatic heating/cooling due to compression/expansion during descent/lifting]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Other physics includes turbulent mixing and surface heat exchange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20968" t="57523" r="10151" b="21243"/>
          <a:stretch/>
        </p:blipFill>
        <p:spPr>
          <a:xfrm>
            <a:off x="2057400" y="1905120"/>
            <a:ext cx="5257800" cy="914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1066680"/>
            <a:ext cx="89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2803"/>
                </a:solidFill>
                <a:latin typeface="Times New Roman"/>
              </a:rPr>
              <a:t>Titan dynamics</a:t>
            </a: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: dominant balance in meridional direction is between horizontal pressure gradient and centrifugal forces [‘cyclostrophic’]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25909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2743200"/>
            <a:ext cx="2286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7920" y="2819520"/>
            <a:ext cx="83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We also include the tidal accelerations due to Saturn’s gravity field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e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42001"/>
                </a:solidFill>
                <a:latin typeface="Palatino"/>
              </a:rPr>
              <a:t>Goals of this work</a:t>
            </a:r>
            <a:endParaRPr b="1" lang="en-US" sz="4800" spc="-1" strike="noStrike">
              <a:solidFill>
                <a:srgbClr val="442001"/>
              </a:solidFill>
              <a:latin typeface="Palatino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80880"/>
            <a:ext cx="914400" cy="0"/>
          </a:xfrm>
          <a:prstGeom prst="line">
            <a:avLst/>
          </a:prstGeom>
          <a:ln w="9360">
            <a:solidFill>
              <a:srgbClr val="622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0" y="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2803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62280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60020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22803"/>
                </a:solidFill>
                <a:latin typeface="Times New Roman"/>
              </a:rPr>
              <a:t>To facilitate autonomous balloon navigation within Titan’s troposphere by modeling the expected atmospheric winds, for the purpose of:</a:t>
            </a:r>
            <a:endParaRPr b="0" lang="en-US" sz="2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22803"/>
                </a:solidFill>
                <a:latin typeface="Times New Roman"/>
              </a:rPr>
              <a:t>a) Predicting the expected trajectories for different start times and locations with little or no active steering</a:t>
            </a:r>
            <a:endParaRPr b="0" lang="en-US" sz="2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22803"/>
                </a:solidFill>
                <a:latin typeface="Times New Roman"/>
              </a:rPr>
              <a:t>b) Predicting regions accessible by a balloon with little or no active steering</a:t>
            </a:r>
            <a:endParaRPr b="0" lang="en-US" sz="2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2280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2280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22803"/>
                </a:solidFill>
                <a:latin typeface="Times New Roman"/>
              </a:rPr>
              <a:t>c) Assessing the need for active steering</a:t>
            </a:r>
            <a:endParaRPr b="0" lang="en-US" sz="2800" spc="-1" strike="noStrike">
              <a:solidFill>
                <a:srgbClr val="62280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20:44:41Z</dcterms:created>
  <dc:creator>Claire Newman</dc:creator>
  <dc:description/>
  <dc:language>en-US</dc:language>
  <cp:lastModifiedBy>Claire Newman</cp:lastModifiedBy>
  <dcterms:modified xsi:type="dcterms:W3CDTF">2008-05-23T03:23:00Z</dcterms:modified>
  <cp:revision>105</cp:revision>
  <dc:subject/>
  <dc:title>Obtaining and using wind fields from numerical models of planetary atmospheres</dc:title>
</cp:coreProperties>
</file>